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1430000" cy="9144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52FC-C5D7-4F20-972B-9A50EC2E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CD2-D234-47DC-83B4-16611E24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760A-8425-4883-858E-C9837B62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42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42680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57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42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42680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FDC-ADF3-4E9D-8E23-B0933B32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B7E1-4B88-47B1-8CA7-A444EC3B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A2E2-D11A-47D1-814D-D883B94E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1AB4-088C-48BA-9E41-479818AD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D7CF-3700-4B1A-BBD4-8A62AB5A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53F4-36D3-4ADA-A2B8-F358A30C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97156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17D7-2FEF-4430-8E13-462C11AC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CC31-55B6-465E-A023-AC9FDD46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EB00-DCBE-4350-B851-46A36F00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1674-14EF-4279-A30E-EA0F27ED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1F95-3964-4E56-9FA2-90D45819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272B-B283-4835-837B-925F03DC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0D48-A292-4418-A8AB-CBD9B5E4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42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57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142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2680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0E2A-ABD0-4C3C-8554-61A7E77C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898-EC09-4803-A222-31BDF491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EF1C-4A8F-4CD8-A7B7-1234DC39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14A1-E17B-4E58-B1B6-3C3AB55B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97156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A350-1229-472E-A625-D6DCA97A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79EB-B8C0-4E4A-B5ED-48220F97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2AA8-1E0F-4328-AB98-B0A11895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E0E-E050-4232-9CA7-806E0D7F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512360" y="1440"/>
            <a:ext cx="21927240" cy="18255240"/>
            <a:chOff x="-10512360" y="1440"/>
            <a:chExt cx="21927240" cy="18255240"/>
          </a:xfrm>
        </p:grpSpPr>
        <p:sp>
          <p:nvSpPr>
            <p:cNvPr id="1" name=""/>
            <p:cNvSpPr/>
            <p:nvPr/>
          </p:nvSpPr>
          <p:spPr>
            <a:xfrm>
              <a:off x="6734520" y="2113920"/>
              <a:ext cx="4680360" cy="701532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0512360" y="1440"/>
              <a:ext cx="21024720" cy="1825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5680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905280" y="8331120"/>
            <a:ext cx="3619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19108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9F6A-01A6-4A80-94B4-9D5098C4D099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701640" y="1947240"/>
            <a:ext cx="21131280" cy="14392800"/>
            <a:chOff x="-9701640" y="1947240"/>
            <a:chExt cx="21131280" cy="14392800"/>
          </a:xfrm>
        </p:grpSpPr>
        <p:sp>
          <p:nvSpPr>
            <p:cNvPr id="45" name=""/>
            <p:cNvSpPr/>
            <p:nvPr/>
          </p:nvSpPr>
          <p:spPr>
            <a:xfrm>
              <a:off x="4089240" y="3612600"/>
              <a:ext cx="7340400" cy="553104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701640" y="1947240"/>
              <a:ext cx="16815240" cy="1439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7480" y="1015920"/>
            <a:ext cx="97153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5680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905280" y="8331120"/>
            <a:ext cx="3619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19108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1096-370C-4753-9B78-B44D1B6E281B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2110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Staatsaufba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6524640"/>
            <a:ext cx="7162920" cy="2097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indergärt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Grund- und Haupt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Wasser- und Wärmeversorg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Abwasserbeseitig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Feuerwe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chwimmbä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portplätze und -hal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6524640"/>
            <a:ext cx="2971800" cy="2097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GEMEIND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721400"/>
            <a:ext cx="7162920" cy="180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rankenhä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ozial- und Jugendhil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Abfallbeseitig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reisstraß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berufliche 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onder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4721400"/>
            <a:ext cx="2971800" cy="180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LANDKREI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2917800"/>
            <a:ext cx="7162920" cy="1803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Kult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Anstellung der Lehrer (Landesbeamte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Lehrplä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Hoch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Gerich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Polize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917800"/>
            <a:ext cx="2895480" cy="1803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LÄND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1701720"/>
            <a:ext cx="7162920" cy="12160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Auswärtige Angelegenheit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Verteidigungsaufgab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Bundesfernstraß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Zo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701720"/>
            <a:ext cx="2971800" cy="12160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B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295280"/>
            <a:ext cx="998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Tahoma"/>
              </a:rPr>
              <a:t>Zuständigkeiten (Beispiele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295280"/>
            <a:ext cx="4114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295280"/>
            <a:ext cx="100584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8621640"/>
            <a:ext cx="100584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295280"/>
            <a:ext cx="0" cy="7326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820520" y="1295280"/>
            <a:ext cx="0" cy="7326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70172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91780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472140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651348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9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4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e Behörde des Landkrei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3600" y="3124080"/>
            <a:ext cx="4762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Kommunaler Tei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er Landkreis fördert das Wohl seiner Einwohner und unterstützt die kreisangehörigen Gemeinden in der Erfüllung ihrer Aufgaben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Rechtsgrundlage: §§ 1 und 2 der LK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286000"/>
            <a:ext cx="105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ff33"/>
                </a:solidFill>
                <a:latin typeface="Tahoma"/>
              </a:rPr>
              <a:t>Das Landratsamt ist eine Körperschaft des öffentlichen Rechts, die intern aus zwei Teilen besteh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86680" y="3124080"/>
            <a:ext cx="4762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Staatlicher Tei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as Landratsamt als untere Verwaltungsbehörde ist auch eine staatliche Behör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taatliche Behörden (Ministerien oder Regierungspräsidium) haben staatliche Aufgaben (z.B. Rechtsaufsicht über die Behörd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Bei Aufgaben des Bundes kommt der Bund für die entstandenen Kosten auf. Rechtsgrundlage: Landesverwaltungsgeset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57160" y="152280"/>
            <a:ext cx="97156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Aufgaben des Landratsam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496960" y="2286000"/>
          <a:ext cx="65883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6960" y="2286000"/>
                    <a:ext cx="65883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8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814400" y="2355840"/>
          <a:ext cx="7669440" cy="60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4400" y="2355840"/>
                    <a:ext cx="766944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So funktioniert der Landkre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29240" y="272736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Vorsit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09880" y="23623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wäh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81520" y="318456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Vorsit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72120" y="2955960"/>
            <a:ext cx="6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leit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3124080"/>
            <a:ext cx="761760" cy="533520"/>
          </a:xfrm>
          <a:custGeom>
            <a:avLst/>
            <a:gdLst>
              <a:gd name="textAreaLeft" fmla="*/ 0 w 761760"/>
              <a:gd name="textAreaRight" fmla="*/ 762120 w 7617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34290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259092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334120" y="3184560"/>
            <a:ext cx="457200" cy="457200"/>
          </a:xfrm>
          <a:custGeom>
            <a:avLst/>
            <a:gdLst>
              <a:gd name="textAreaLeft" fmla="*/ 152280 w 457200"/>
              <a:gd name="textAreaRight" fmla="*/ 326520 w 457200"/>
              <a:gd name="textAreaTop" fmla="*/ 283320 h 457200"/>
              <a:gd name="textAreaBottom" fmla="*/ 3268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9542"/>
                </a:moveTo>
                <a:lnTo>
                  <a:pt x="13371" y="19542"/>
                </a:lnTo>
                <a:lnTo>
                  <a:pt x="13371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5429" y="72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955960"/>
            <a:ext cx="1524240" cy="152280"/>
          </a:xfrm>
          <a:prstGeom prst="leftArrow">
            <a:avLst>
              <a:gd name="adj1" fmla="val 50000"/>
              <a:gd name="adj2" fmla="val 250236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7314840" y="3009960"/>
            <a:ext cx="723960" cy="723960"/>
          </a:xfrm>
          <a:custGeom>
            <a:avLst/>
            <a:gdLst>
              <a:gd name="textAreaLeft" fmla="*/ 0 w 723960"/>
              <a:gd name="textAreaRight" fmla="*/ 724320 w 72396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66880" y="34290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wäh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85440" y="31845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wäh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95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45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95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45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95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45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95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45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95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45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95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45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95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3T18:54:09Z</dcterms:created>
  <dc:creator>Waldemar Friedrich</dc:creator>
  <dc:description/>
  <dc:language>en-US</dc:language>
  <cp:lastModifiedBy>Hörstmann</cp:lastModifiedBy>
  <cp:lastPrinted>2004-11-19T10:17:27Z</cp:lastPrinted>
  <dcterms:modified xsi:type="dcterms:W3CDTF">2007-01-21T11:57:54Z</dcterms:modified>
  <cp:revision>110</cp:revision>
  <dc:subject/>
  <dc:title>Das Landratsamt Enzkreis</dc:title>
</cp:coreProperties>
</file>